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9363E-155E-42DF-B7BF-A1B675B09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C7697-13A5-44CA-B635-EEC56651F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E8FB3-86F4-45BA-939B-4EC760411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76C49-57D8-436D-B533-858590862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E26E5-F782-4858-A34E-FDF385FEF3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4D3E0-9CF9-42C7-8FB5-6C4DAC171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E2EED-F4E6-462D-A29F-604BD2B40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867E2-A820-4330-8610-F990D7F5D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D9288-7998-4338-AE95-5C58BC448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20294-6682-4389-B86B-FCAE85D3A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BD4FF-0BC0-4A70-8180-3BA7D08DF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873FC-061F-4D0A-AFAD-AD5150470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27CC9-C631-41E8-9BD2-F894DB7A1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501F5-419C-4BBD-A6D7-41F22489A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38BD4-F74A-4FB6-9A6F-96BE62B6A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C405F0-EA70-41AE-B410-23CDD47E36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30550F-90CA-4E75-9C4E-5D3EFFEE4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559D68-9F04-46CF-9999-03E9454FE3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302607-7487-48D7-B294-0F889A683F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F36A86-8CBF-46E2-B1AA-936AC1596B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0EA994-F9AC-4719-B8C8-A40384CD09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99A68D-F53C-4EE7-B41D-F2BF7EE39D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1B0B5-4351-462F-9604-241DA6354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7C8011-3372-42D4-9445-57212B263C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880EF3-1702-4491-91A4-1C75D88507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BDDB30-94EE-4600-A34F-31B370193E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AAB88D-A98D-49CE-AF3D-D98A96C4DD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624FC2-D51B-4CC7-8D36-AB24AB42C7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4E6C8F-0AD1-4B6D-9940-8BC98F2EFA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AD3413-E37E-420B-94C7-DAF5700939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1E50D-1103-4AB0-824D-AC1743971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B5E9D-E2E1-44AD-A2B7-19D13FBC1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CEA2D-3004-419B-B4B7-A8B798741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1FF40-770C-4DBE-8AEC-E57AB0096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7F6C2-BA2D-40C5-A3D3-F3F00651B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E1C77-C595-4626-B1EF-47303B8411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D7C1A-AAF9-49AD-8173-28668386ED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1" name=""/>
          <p:cNvGrpSpPr/>
          <p:nvPr/>
        </p:nvGrpSpPr>
        <p:grpSpPr>
          <a:xfrm>
            <a:off x="0" y="0"/>
            <a:ext cx="8686800" cy="4876920"/>
            <a:chOff x="0" y="0"/>
            <a:chExt cx="8686800" cy="4876920"/>
          </a:xfrm>
        </p:grpSpPr>
        <p:sp>
          <p:nvSpPr>
            <p:cNvPr id="42"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380880" y="1417680"/>
              <a:ext cx="8305920" cy="182520"/>
              <a:chOff x="380880" y="1417680"/>
              <a:chExt cx="8305920" cy="182520"/>
            </a:xfrm>
          </p:grpSpPr>
          <p:sp>
            <p:nvSpPr>
              <p:cNvPr id="44"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 name="PlaceHolder 3"/>
          <p:cNvSpPr>
            <a:spLocks noGrp="1"/>
          </p:cNvSpPr>
          <p:nvPr>
            <p:ph type="dt" idx="4"/>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9" name="PlaceHolder 4"/>
          <p:cNvSpPr>
            <a:spLocks noGrp="1"/>
          </p:cNvSpPr>
          <p:nvPr>
            <p:ph type="ftr" idx="5"/>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AE73-A104-4C64-914A-91ED88A622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 name=""/>
          <p:cNvGrpSpPr/>
          <p:nvPr/>
        </p:nvGrpSpPr>
        <p:grpSpPr>
          <a:xfrm>
            <a:off x="0" y="0"/>
            <a:ext cx="8763120" cy="5943600"/>
            <a:chOff x="0" y="0"/>
            <a:chExt cx="8763120" cy="5943600"/>
          </a:xfrm>
        </p:grpSpPr>
        <p:sp>
          <p:nvSpPr>
            <p:cNvPr id="89"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
            <p:cNvGrpSpPr/>
            <p:nvPr/>
          </p:nvGrpSpPr>
          <p:grpSpPr>
            <a:xfrm>
              <a:off x="0" y="3505320"/>
              <a:ext cx="8763120" cy="2438280"/>
              <a:chOff x="0" y="3505320"/>
              <a:chExt cx="8763120" cy="2438280"/>
            </a:xfrm>
          </p:grpSpPr>
          <p:sp>
            <p:nvSpPr>
              <p:cNvPr id="91"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635040" y="533520"/>
              <a:ext cx="8077320" cy="304560"/>
              <a:chOff x="635040" y="533520"/>
              <a:chExt cx="8077320" cy="304560"/>
            </a:xfrm>
          </p:grpSpPr>
          <p:sp>
            <p:nvSpPr>
              <p:cNvPr id="95"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98" name="PlaceHolder 2"/>
          <p:cNvSpPr>
            <a:spLocks noGrp="1"/>
          </p:cNvSpPr>
          <p:nvPr>
            <p:ph type="dt" idx="7"/>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99" name="PlaceHolder 3"/>
          <p:cNvSpPr>
            <a:spLocks noGrp="1"/>
          </p:cNvSpPr>
          <p:nvPr>
            <p:ph type="ftr" idx="8"/>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00" name="PlaceHolder 4"/>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1149D-5CFB-486B-813F-C129332C39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4d4d4d"/>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990720" y="609480"/>
            <a:ext cx="7391160" cy="586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0099cc"/>
                </a:solidFill>
                <a:latin typeface="comic"/>
              </a:rPr>
              <a:t>Ajanta and ellora caves</a:t>
            </a:r>
            <a:endParaRPr b="0" lang="en-US" sz="4600" spc="-1" strike="noStrike">
              <a:solidFill>
                <a:srgbClr val="330033"/>
              </a:solidFill>
              <a:latin typeface="Times New Roman"/>
            </a:endParaRPr>
          </a:p>
        </p:txBody>
      </p:sp>
      <p:sp>
        <p:nvSpPr>
          <p:cNvPr id="141" name="PlaceHolder 2"/>
          <p:cNvSpPr>
            <a:spLocks noGrp="1"/>
          </p:cNvSpPr>
          <p:nvPr>
            <p:ph/>
          </p:nvPr>
        </p:nvSpPr>
        <p:spPr>
          <a:xfrm>
            <a:off x="0" y="15238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onishingly carved into hillside rock in the middle of nowhere are the Ajanta and Ellora caves. There are 34 caves at Ellora dating from between the 6th and 11th centuries AD, and 29 caves at Ajanta dating back to between the 2nd century BC and 6th century AD. While the Ajanta caves are rich in paintings and sculpture, the Ellora caves are renowned for their extraordinary architecture. The most incredible thing about these caves is that they were crafted by hand, with only a hammer and chisel. </a:t>
            </a:r>
            <a:endParaRPr b="0" lang="en-US" sz="2000" spc="-1" strike="noStrike">
              <a:solidFill>
                <a:srgbClr val="000000"/>
              </a:solidFill>
              <a:latin typeface="Arial"/>
            </a:endParaRPr>
          </a:p>
        </p:txBody>
      </p:sp>
      <p:pic>
        <p:nvPicPr>
          <p:cNvPr id="142" name="" descr=""/>
          <p:cNvPicPr/>
          <p:nvPr/>
        </p:nvPicPr>
        <p:blipFill>
          <a:blip r:embed="rId1"/>
          <a:stretch/>
        </p:blipFill>
        <p:spPr>
          <a:xfrm>
            <a:off x="4038480" y="3581280"/>
            <a:ext cx="342900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07:33:56Z</dcterms:created>
  <dc:creator>pc</dc:creator>
  <dc:description/>
  <dc:language>en-US</dc:language>
  <cp:lastModifiedBy>pc</cp:lastModifiedBy>
  <dcterms:modified xsi:type="dcterms:W3CDTF">2010-03-26T08:27:40Z</dcterms:modified>
  <cp:revision>2</cp:revision>
  <dc:subject/>
  <dc:title>Slide 1</dc:title>
</cp:coreProperties>
</file>